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5486400" cy="411480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AutoShape 3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4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5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AutoShape 6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AutoShape 7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AutoShape 8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AutoShape 9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AutoShape 10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AutoShape 1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AutoShape 12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AutoShape 13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AutoShape 14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AutoShape 15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AutoShape 16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AutoShape 17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AutoShape 18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AutoShape 19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AutoShape 20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AutoShape 2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AutoShape 22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AutoShape 23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AutoShape 24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AutoShape 25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AutoShape 26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AutoShape 27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AutoShape 28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AutoShape 29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AutoShape 30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AutoShape 3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AutoShape 32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AutoShape 33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AutoShape 34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AutoShape 35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AutoShape 36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AutoShape 37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AutoShape 38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AutoShape 39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AutoShape 40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AutoShape 4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42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AutoShape 43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AutoShape 44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AutoShape 45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46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AutoShape 47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AutoShape 48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AutoShape 49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AutoShape 50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AutoShape 5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AutoShape 52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AutoShape 53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AutoShape 54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AutoShape 55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AutoShape 56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AutoShape 57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AutoShape 58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AutoShape 59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AutoShape 60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AutoShape 6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AutoShape 62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AutoShape 63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AutoShape 64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AutoShape 65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AutoShape 66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AutoShape 67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AutoShape 68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AutoShape 69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AutoShape 70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AutoShape 7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AutoShape 72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AutoShape 73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AutoShape 74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AutoShape 75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AutoShape 76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AutoShape 77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AutoShape 78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49039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808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777960" y="4776840"/>
            <a:ext cx="60926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4792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dt" idx="1"/>
          </p:nvPr>
        </p:nvSpPr>
        <p:spPr>
          <a:xfrm>
            <a:off x="4398480" y="-360"/>
            <a:ext cx="32482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ftr" idx="2"/>
          </p:nvPr>
        </p:nvSpPr>
        <p:spPr>
          <a:xfrm>
            <a:off x="0" y="9555120"/>
            <a:ext cx="324792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 type="sldNum" idx="3"/>
          </p:nvPr>
        </p:nvSpPr>
        <p:spPr>
          <a:xfrm>
            <a:off x="4398480" y="9555120"/>
            <a:ext cx="32482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F0873D-00E4-4D94-8267-D0A6F61B953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84"/>
          <p:cNvSpPr/>
          <p:nvPr/>
        </p:nvSpPr>
        <p:spPr>
          <a:xfrm>
            <a:off x="4398840" y="9555120"/>
            <a:ext cx="32482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446C64-12EF-4E7C-8A45-BD567231E0D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Text Box 1"/>
          <p:cNvSpPr/>
          <p:nvPr/>
        </p:nvSpPr>
        <p:spPr>
          <a:xfrm>
            <a:off x="1371600" y="763560"/>
            <a:ext cx="5000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094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84"/>
          <p:cNvSpPr/>
          <p:nvPr/>
        </p:nvSpPr>
        <p:spPr>
          <a:xfrm>
            <a:off x="4398840" y="9555120"/>
            <a:ext cx="32482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5617E9-8BF5-4167-82C6-B4122FC0C1A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311120" y="763560"/>
            <a:ext cx="5024520" cy="376884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777960" y="4776840"/>
            <a:ext cx="60926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84"/>
          <p:cNvSpPr/>
          <p:nvPr/>
        </p:nvSpPr>
        <p:spPr>
          <a:xfrm>
            <a:off x="4398840" y="9555120"/>
            <a:ext cx="32482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9A03E0-B74E-4E96-B62A-3B328641F47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311120" y="763560"/>
            <a:ext cx="5024520" cy="376884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777960" y="4776840"/>
            <a:ext cx="60926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84"/>
          <p:cNvSpPr/>
          <p:nvPr/>
        </p:nvSpPr>
        <p:spPr>
          <a:xfrm>
            <a:off x="4398840" y="9555120"/>
            <a:ext cx="32482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A97B7B-5CB7-4DB6-B5CD-FE4A38E0916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311120" y="763560"/>
            <a:ext cx="5024520" cy="376884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777960" y="4776840"/>
            <a:ext cx="60926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84"/>
          <p:cNvSpPr/>
          <p:nvPr/>
        </p:nvSpPr>
        <p:spPr>
          <a:xfrm>
            <a:off x="4398840" y="9555120"/>
            <a:ext cx="32482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C1582D-511B-46BB-85AE-48D3D7CD7F3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Text Box 2"/>
          <p:cNvSpPr/>
          <p:nvPr/>
        </p:nvSpPr>
        <p:spPr>
          <a:xfrm>
            <a:off x="4398840" y="9555120"/>
            <a:ext cx="32482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FCD217-F2CA-4274-9C74-B57F4D1FBAE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 Box 3"/>
          <p:cNvSpPr/>
          <p:nvPr/>
        </p:nvSpPr>
        <p:spPr>
          <a:xfrm>
            <a:off x="1311120" y="763560"/>
            <a:ext cx="5024520" cy="3768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body"/>
          </p:nvPr>
        </p:nvSpPr>
        <p:spPr>
          <a:xfrm>
            <a:off x="777960" y="4772160"/>
            <a:ext cx="6092640" cy="4543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84"/>
          <p:cNvSpPr/>
          <p:nvPr/>
        </p:nvSpPr>
        <p:spPr>
          <a:xfrm>
            <a:off x="4398840" y="9555120"/>
            <a:ext cx="32482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C012B2-62E7-4FE0-9750-EAA123FAB5E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311120" y="763560"/>
            <a:ext cx="5024520" cy="376884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777960" y="4776840"/>
            <a:ext cx="6092640" cy="4533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84"/>
          <p:cNvSpPr/>
          <p:nvPr/>
        </p:nvSpPr>
        <p:spPr>
          <a:xfrm>
            <a:off x="4398840" y="9555120"/>
            <a:ext cx="32482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DF93D5-F004-448E-9D22-901B17F5C10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11120" y="763560"/>
            <a:ext cx="5024520" cy="376884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960" y="4776840"/>
            <a:ext cx="6092640" cy="4533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84"/>
          <p:cNvSpPr/>
          <p:nvPr/>
        </p:nvSpPr>
        <p:spPr>
          <a:xfrm>
            <a:off x="4398840" y="9555120"/>
            <a:ext cx="32482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1FBF0B-2C72-4A62-B6BA-B93F3B8B062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311120" y="763560"/>
            <a:ext cx="5024520" cy="376884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777960" y="4776840"/>
            <a:ext cx="6092640" cy="4533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84"/>
          <p:cNvSpPr/>
          <p:nvPr/>
        </p:nvSpPr>
        <p:spPr>
          <a:xfrm>
            <a:off x="4398840" y="9555120"/>
            <a:ext cx="32482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9FF57B-A539-4597-BCCE-629BF838EC2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11120" y="763560"/>
            <a:ext cx="5024520" cy="376884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960" y="4776840"/>
            <a:ext cx="6092640" cy="4533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84"/>
          <p:cNvSpPr/>
          <p:nvPr/>
        </p:nvSpPr>
        <p:spPr>
          <a:xfrm>
            <a:off x="4398840" y="9555120"/>
            <a:ext cx="32482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F78D13-1B8A-4FE3-8D9F-EEBF93DB92D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311120" y="763560"/>
            <a:ext cx="5024520" cy="376884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777960" y="4776840"/>
            <a:ext cx="6092640" cy="4533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84"/>
          <p:cNvSpPr/>
          <p:nvPr/>
        </p:nvSpPr>
        <p:spPr>
          <a:xfrm>
            <a:off x="4398840" y="9555120"/>
            <a:ext cx="32482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BF53A5-4040-4975-A0E1-BB2009EBF7D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311120" y="763560"/>
            <a:ext cx="5024520" cy="37688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777960" y="4776840"/>
            <a:ext cx="6092640" cy="4533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84"/>
          <p:cNvSpPr/>
          <p:nvPr/>
        </p:nvSpPr>
        <p:spPr>
          <a:xfrm>
            <a:off x="4398840" y="9555120"/>
            <a:ext cx="32482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27625D-7C67-4304-899C-322F5216963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311120" y="763560"/>
            <a:ext cx="5024520" cy="376884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777960" y="4776840"/>
            <a:ext cx="6092640" cy="4533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84"/>
          <p:cNvSpPr/>
          <p:nvPr/>
        </p:nvSpPr>
        <p:spPr>
          <a:xfrm>
            <a:off x="4398840" y="9555120"/>
            <a:ext cx="32482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9A8A6A-6BA7-4C71-9D1E-20815F851E6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311120" y="763560"/>
            <a:ext cx="5024520" cy="376884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777960" y="4776840"/>
            <a:ext cx="6092640" cy="4533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79440" y="125280"/>
            <a:ext cx="4757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52440" y="842760"/>
            <a:ext cx="4764240" cy="126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52440" y="2233440"/>
            <a:ext cx="4764240" cy="126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79440" y="125280"/>
            <a:ext cx="4757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52440" y="842760"/>
            <a:ext cx="2324880" cy="126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93960" y="842760"/>
            <a:ext cx="2324880" cy="126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52440" y="2233440"/>
            <a:ext cx="2324880" cy="126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793960" y="2233440"/>
            <a:ext cx="2324880" cy="126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79440" y="125280"/>
            <a:ext cx="4757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52440" y="842760"/>
            <a:ext cx="1533960" cy="126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963440" y="842760"/>
            <a:ext cx="1533960" cy="126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574440" y="842760"/>
            <a:ext cx="1533960" cy="126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52440" y="2233440"/>
            <a:ext cx="1533960" cy="126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963440" y="2233440"/>
            <a:ext cx="1533960" cy="126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574440" y="2233440"/>
            <a:ext cx="1533960" cy="126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79440" y="125280"/>
            <a:ext cx="4757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52440" y="842760"/>
            <a:ext cx="4764240" cy="266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indent="0" algn="ctr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79440" y="125280"/>
            <a:ext cx="4757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52440" y="842760"/>
            <a:ext cx="4764240" cy="266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79440" y="125280"/>
            <a:ext cx="4757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52440" y="842760"/>
            <a:ext cx="2324880" cy="266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793960" y="842760"/>
            <a:ext cx="2324880" cy="266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79440" y="125280"/>
            <a:ext cx="4757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79440" y="125280"/>
            <a:ext cx="4757760" cy="27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algn="ctr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79440" y="125280"/>
            <a:ext cx="4757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52440" y="842760"/>
            <a:ext cx="2324880" cy="126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793960" y="842760"/>
            <a:ext cx="2324880" cy="266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52440" y="2233440"/>
            <a:ext cx="2324880" cy="126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79440" y="125280"/>
            <a:ext cx="4757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52440" y="842760"/>
            <a:ext cx="2324880" cy="266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793960" y="842760"/>
            <a:ext cx="2324880" cy="126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793960" y="2233440"/>
            <a:ext cx="2324880" cy="126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79440" y="125280"/>
            <a:ext cx="4757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52440" y="842760"/>
            <a:ext cx="2324880" cy="126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793960" y="842760"/>
            <a:ext cx="2324880" cy="126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52440" y="2233440"/>
            <a:ext cx="4764240" cy="126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0" y="3673440"/>
            <a:ext cx="4479840" cy="265320"/>
          </a:xfrm>
          <a:prstGeom prst="roundRect">
            <a:avLst>
              <a:gd name="adj" fmla="val 255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379440" y="3679920"/>
            <a:ext cx="2176560" cy="258840"/>
          </a:xfrm>
          <a:prstGeom prst="roundRect">
            <a:avLst>
              <a:gd name="adj" fmla="val 255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ONE LAPTOP PER CHILD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79440" y="125280"/>
            <a:ext cx="4757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808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52440" y="842760"/>
            <a:ext cx="4764240" cy="266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7800" indent="-27288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71440" indent="-12528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3440" indent="-10008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19368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19368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19368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7" descr=""/>
          <p:cNvPicPr/>
          <p:nvPr/>
        </p:nvPicPr>
        <p:blipFill>
          <a:blip r:embed="rId2"/>
          <a:stretch/>
        </p:blipFill>
        <p:spPr>
          <a:xfrm>
            <a:off x="4325760" y="3649680"/>
            <a:ext cx="1143000" cy="338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79440" y="1609200"/>
            <a:ext cx="4819680" cy="42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8080"/>
                </a:solidFill>
                <a:latin typeface="Arial"/>
              </a:rPr>
              <a:t>One Laptop per Child</a:t>
            </a: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127" name="AutoShape 2"/>
          <p:cNvSpPr/>
          <p:nvPr/>
        </p:nvSpPr>
        <p:spPr>
          <a:xfrm>
            <a:off x="0" y="2819520"/>
            <a:ext cx="5486400" cy="761760"/>
          </a:xfrm>
          <a:prstGeom prst="roundRect">
            <a:avLst>
              <a:gd name="adj" fmla="val 171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Software Develop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Ed McNierne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September 18, 2008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Picture 3" descr=""/>
          <p:cNvPicPr/>
          <p:nvPr/>
        </p:nvPicPr>
        <p:blipFill>
          <a:blip r:embed="rId1"/>
          <a:stretch/>
        </p:blipFill>
        <p:spPr>
          <a:xfrm>
            <a:off x="0" y="568440"/>
            <a:ext cx="5486400" cy="167328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4"/>
          <p:cNvSpPr/>
          <p:nvPr/>
        </p:nvSpPr>
        <p:spPr>
          <a:xfrm>
            <a:off x="1220040" y="1981080"/>
            <a:ext cx="307620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b3b3b3"/>
                </a:solidFill>
                <a:latin typeface="Arial"/>
              </a:rPr>
              <a:t>One Laptop per Chil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2"/>
          <p:cNvSpPr/>
          <p:nvPr/>
        </p:nvSpPr>
        <p:spPr>
          <a:xfrm>
            <a:off x="380880" y="34920"/>
            <a:ext cx="4757760" cy="92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f8080"/>
                </a:solidFill>
                <a:latin typeface="Arial"/>
              </a:rPr>
              <a:t>Top New Features in 8.2.0</a:t>
            </a:r>
            <a:br>
              <a:rPr sz="2800"/>
            </a:br>
            <a:r>
              <a:rPr b="1" lang="en-US" sz="2800" spc="-1" strike="noStrike">
                <a:solidFill>
                  <a:srgbClr val="ff8080"/>
                </a:solidFill>
                <a:latin typeface="Arial"/>
              </a:rPr>
              <a:t>Graphical Control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Picture 3" descr=""/>
          <p:cNvPicPr/>
          <p:nvPr/>
        </p:nvPicPr>
        <p:blipFill>
          <a:blip r:embed="rId1"/>
          <a:stretch/>
        </p:blipFill>
        <p:spPr>
          <a:xfrm>
            <a:off x="793800" y="985680"/>
            <a:ext cx="3657600" cy="2514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2"/>
          <p:cNvSpPr/>
          <p:nvPr/>
        </p:nvSpPr>
        <p:spPr>
          <a:xfrm>
            <a:off x="379440" y="76320"/>
            <a:ext cx="47577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f8080"/>
                </a:solidFill>
                <a:latin typeface="Arial"/>
              </a:rPr>
              <a:t>New Home Vie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Picture 3" descr=""/>
          <p:cNvPicPr/>
          <p:nvPr/>
        </p:nvPicPr>
        <p:blipFill>
          <a:blip r:embed="rId1"/>
          <a:stretch/>
        </p:blipFill>
        <p:spPr>
          <a:xfrm>
            <a:off x="152280" y="990720"/>
            <a:ext cx="3467160" cy="2100240"/>
          </a:xfrm>
          <a:prstGeom prst="rect">
            <a:avLst/>
          </a:prstGeom>
          <a:ln w="0">
            <a:noFill/>
          </a:ln>
        </p:spPr>
      </p:pic>
      <p:grpSp>
        <p:nvGrpSpPr>
          <p:cNvPr id="153" name="Group 4"/>
          <p:cNvGrpSpPr/>
          <p:nvPr/>
        </p:nvGrpSpPr>
        <p:grpSpPr>
          <a:xfrm>
            <a:off x="3745080" y="1447920"/>
            <a:ext cx="1587240" cy="1333440"/>
            <a:chOff x="3745080" y="1447920"/>
            <a:chExt cx="1587240" cy="1333440"/>
          </a:xfrm>
        </p:grpSpPr>
        <p:sp>
          <p:nvSpPr>
            <p:cNvPr id="154" name="Rectangle 5"/>
            <p:cNvSpPr/>
            <p:nvPr/>
          </p:nvSpPr>
          <p:spPr>
            <a:xfrm>
              <a:off x="3745080" y="1447920"/>
              <a:ext cx="1587240" cy="13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3560" rIns="43560" tIns="21600" bIns="21600" anchor="ctr">
              <a:noAutofit/>
            </a:bodyPr>
            <a:p>
              <a:pPr marL="228600" indent="-228600">
                <a:lnSpc>
                  <a:spcPct val="100000"/>
                </a:lnSpc>
                <a:buClr>
                  <a:srgbClr val="000000"/>
                </a:buClr>
                <a:buSzPct val="45000"/>
                <a:buFont typeface="Arial"/>
                <a:buAutoNum type="arabicPeriod"/>
                <a:tabLst>
                  <a:tab algn="l" pos="228600"/>
                  <a:tab algn="l" pos="685800"/>
                  <a:tab algn="l" pos="1143000"/>
                  <a:tab algn="l" pos="1600200"/>
                  <a:tab algn="l" pos="2057400"/>
                  <a:tab algn="l" pos="2514600"/>
                  <a:tab algn="l" pos="2971800"/>
                  <a:tab algn="l" pos="3429000"/>
                  <a:tab algn="l" pos="3886200"/>
                  <a:tab algn="l" pos="4343400"/>
                  <a:tab algn="l" pos="4800600"/>
                  <a:tab algn="l" pos="5257800"/>
                  <a:tab algn="l" pos="5715000"/>
                  <a:tab algn="l" pos="6172200"/>
                  <a:tab algn="l" pos="6629400"/>
                  <a:tab algn="l" pos="7086600"/>
                  <a:tab algn="l" pos="7543800"/>
                  <a:tab algn="l" pos="8001000"/>
                  <a:tab algn="l" pos="8458200"/>
                  <a:tab algn="l" pos="8915400"/>
                  <a:tab algn="l" pos="9372600"/>
                  <a:tab algn="l" pos="9601200"/>
                  <a:tab algn="l" pos="10058400"/>
                  <a:tab algn="l" pos="105156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Search for activities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marL="228600" indent="-228600">
                <a:lnSpc>
                  <a:spcPct val="100000"/>
                </a:lnSpc>
                <a:buClr>
                  <a:srgbClr val="000000"/>
                </a:buClr>
                <a:buSzPct val="45000"/>
                <a:buFont typeface="Arial"/>
                <a:buAutoNum type="arabicPeriod"/>
                <a:tabLst>
                  <a:tab algn="l" pos="228600"/>
                  <a:tab algn="l" pos="685800"/>
                  <a:tab algn="l" pos="1143000"/>
                  <a:tab algn="l" pos="1600200"/>
                  <a:tab algn="l" pos="2057400"/>
                  <a:tab algn="l" pos="2514600"/>
                  <a:tab algn="l" pos="2971800"/>
                  <a:tab algn="l" pos="3429000"/>
                  <a:tab algn="l" pos="3886200"/>
                  <a:tab algn="l" pos="4343400"/>
                  <a:tab algn="l" pos="4800600"/>
                  <a:tab algn="l" pos="5257800"/>
                  <a:tab algn="l" pos="5715000"/>
                  <a:tab algn="l" pos="6172200"/>
                  <a:tab algn="l" pos="6629400"/>
                  <a:tab algn="l" pos="7086600"/>
                  <a:tab algn="l" pos="7543800"/>
                  <a:tab algn="l" pos="8001000"/>
                  <a:tab algn="l" pos="8458200"/>
                  <a:tab algn="l" pos="8915400"/>
                  <a:tab algn="l" pos="9372600"/>
                  <a:tab algn="l" pos="9601200"/>
                  <a:tab algn="l" pos="10058400"/>
                  <a:tab algn="l" pos="105156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hange view modes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marL="228600" indent="-228600">
                <a:lnSpc>
                  <a:spcPct val="100000"/>
                </a:lnSpc>
                <a:buClr>
                  <a:srgbClr val="000000"/>
                </a:buClr>
                <a:buSzPct val="45000"/>
                <a:buFont typeface="Arial"/>
                <a:buAutoNum type="arabicPeriod"/>
                <a:tabLst>
                  <a:tab algn="l" pos="228600"/>
                  <a:tab algn="l" pos="685800"/>
                  <a:tab algn="l" pos="1143000"/>
                  <a:tab algn="l" pos="1600200"/>
                  <a:tab algn="l" pos="2057400"/>
                  <a:tab algn="l" pos="2514600"/>
                  <a:tab algn="l" pos="2971800"/>
                  <a:tab algn="l" pos="3429000"/>
                  <a:tab algn="l" pos="3886200"/>
                  <a:tab algn="l" pos="4343400"/>
                  <a:tab algn="l" pos="4800600"/>
                  <a:tab algn="l" pos="5257800"/>
                  <a:tab algn="l" pos="5715000"/>
                  <a:tab algn="l" pos="6172200"/>
                  <a:tab algn="l" pos="6629400"/>
                  <a:tab algn="l" pos="7086600"/>
                  <a:tab algn="l" pos="7543800"/>
                  <a:tab algn="l" pos="8001000"/>
                  <a:tab algn="l" pos="8458200"/>
                  <a:tab algn="l" pos="8915400"/>
                  <a:tab algn="l" pos="9372600"/>
                  <a:tab algn="l" pos="9601200"/>
                  <a:tab algn="l" pos="10058400"/>
                  <a:tab algn="l" pos="105156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Launch Activity and add or delete from favorites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marL="228600" indent="-228600">
                <a:lnSpc>
                  <a:spcPct val="100000"/>
                </a:lnSpc>
                <a:buClr>
                  <a:srgbClr val="000000"/>
                </a:buClr>
                <a:buSzPct val="45000"/>
                <a:buFont typeface="Arial"/>
                <a:buAutoNum type="arabicPeriod"/>
                <a:tabLst>
                  <a:tab algn="l" pos="228600"/>
                  <a:tab algn="l" pos="685800"/>
                  <a:tab algn="l" pos="1143000"/>
                  <a:tab algn="l" pos="1600200"/>
                  <a:tab algn="l" pos="2057400"/>
                  <a:tab algn="l" pos="2514600"/>
                  <a:tab algn="l" pos="2971800"/>
                  <a:tab algn="l" pos="3429000"/>
                  <a:tab algn="l" pos="3886200"/>
                  <a:tab algn="l" pos="4343400"/>
                  <a:tab algn="l" pos="4800600"/>
                  <a:tab algn="l" pos="5257800"/>
                  <a:tab algn="l" pos="5715000"/>
                  <a:tab algn="l" pos="6172200"/>
                  <a:tab algn="l" pos="6629400"/>
                  <a:tab algn="l" pos="7086600"/>
                  <a:tab algn="l" pos="7543800"/>
                  <a:tab algn="l" pos="8001000"/>
                  <a:tab algn="l" pos="8458200"/>
                  <a:tab algn="l" pos="8915400"/>
                  <a:tab algn="l" pos="9372600"/>
                  <a:tab algn="l" pos="9601200"/>
                  <a:tab algn="l" pos="10058400"/>
                  <a:tab algn="l" pos="105156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XO icon brings up control panel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marL="228600" indent="-228600">
                <a:lnSpc>
                  <a:spcPct val="100000"/>
                </a:lnSpc>
                <a:buClr>
                  <a:srgbClr val="000000"/>
                </a:buClr>
                <a:buSzPct val="45000"/>
                <a:buFont typeface="Arial"/>
                <a:buAutoNum type="arabicPeriod"/>
                <a:tabLst>
                  <a:tab algn="l" pos="228600"/>
                  <a:tab algn="l" pos="685800"/>
                  <a:tab algn="l" pos="1143000"/>
                  <a:tab algn="l" pos="1600200"/>
                  <a:tab algn="l" pos="2057400"/>
                  <a:tab algn="l" pos="2514600"/>
                  <a:tab algn="l" pos="2971800"/>
                  <a:tab algn="l" pos="3429000"/>
                  <a:tab algn="l" pos="3886200"/>
                  <a:tab algn="l" pos="4343400"/>
                  <a:tab algn="l" pos="4800600"/>
                  <a:tab algn="l" pos="5257800"/>
                  <a:tab algn="l" pos="5715000"/>
                  <a:tab algn="l" pos="6172200"/>
                  <a:tab algn="l" pos="6629400"/>
                  <a:tab algn="l" pos="7086600"/>
                  <a:tab algn="l" pos="7543800"/>
                  <a:tab algn="l" pos="8001000"/>
                  <a:tab algn="l" pos="8458200"/>
                  <a:tab algn="l" pos="8915400"/>
                  <a:tab algn="l" pos="9372600"/>
                  <a:tab algn="l" pos="9601200"/>
                  <a:tab algn="l" pos="10058400"/>
                  <a:tab algn="l" pos="105156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ctivity with the focus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marL="228600" indent="-228600">
                <a:lnSpc>
                  <a:spcPct val="100000"/>
                </a:lnSpc>
                <a:tabLst>
                  <a:tab algn="l" pos="0"/>
                  <a:tab algn="l" pos="228600"/>
                  <a:tab algn="l" pos="685800"/>
                  <a:tab algn="l" pos="1143000"/>
                  <a:tab algn="l" pos="1600200"/>
                  <a:tab algn="l" pos="2057400"/>
                  <a:tab algn="l" pos="2514600"/>
                  <a:tab algn="l" pos="2971800"/>
                  <a:tab algn="l" pos="3429000"/>
                  <a:tab algn="l" pos="3886200"/>
                  <a:tab algn="l" pos="4343400"/>
                  <a:tab algn="l" pos="4800600"/>
                  <a:tab algn="l" pos="5257800"/>
                  <a:tab algn="l" pos="5715000"/>
                  <a:tab algn="l" pos="6172200"/>
                  <a:tab algn="l" pos="6629400"/>
                  <a:tab algn="l" pos="7086600"/>
                  <a:tab algn="l" pos="7543800"/>
                  <a:tab algn="l" pos="8001000"/>
                  <a:tab algn="l" pos="8458200"/>
                  <a:tab algn="l" pos="8915400"/>
                  <a:tab algn="l" pos="9372600"/>
                  <a:tab algn="l" pos="9601200"/>
                  <a:tab algn="l" pos="10058400"/>
                  <a:tab algn="l" pos="10515600"/>
                </a:tabLst>
              </a:pP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2"/>
          <p:cNvSpPr/>
          <p:nvPr/>
        </p:nvSpPr>
        <p:spPr>
          <a:xfrm>
            <a:off x="379440" y="76320"/>
            <a:ext cx="47577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f8080"/>
                </a:solidFill>
                <a:latin typeface="Arial"/>
              </a:rPr>
              <a:t>Longer Battery Life</a:t>
            </a:r>
            <a:br>
              <a:rPr sz="2800"/>
            </a:br>
            <a:r>
              <a:rPr b="1" lang="en-US" sz="2000" spc="-1" strike="noStrike">
                <a:solidFill>
                  <a:srgbClr val="ff8080"/>
                </a:solidFill>
                <a:latin typeface="Arial"/>
              </a:rPr>
              <a:t>Two power saving mod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6" name="Picture 3" descr=""/>
          <p:cNvPicPr/>
          <p:nvPr/>
        </p:nvPicPr>
        <p:blipFill>
          <a:blip r:embed="rId1"/>
          <a:srcRect l="6400" t="9600" r="7200" b="13866"/>
          <a:stretch/>
        </p:blipFill>
        <p:spPr>
          <a:xfrm>
            <a:off x="396720" y="1138320"/>
            <a:ext cx="3291120" cy="2187360"/>
          </a:xfrm>
          <a:prstGeom prst="rect">
            <a:avLst/>
          </a:prstGeom>
          <a:ln w="0">
            <a:noFill/>
          </a:ln>
        </p:spPr>
      </p:pic>
      <p:grpSp>
        <p:nvGrpSpPr>
          <p:cNvPr id="157" name="Group 4"/>
          <p:cNvGrpSpPr/>
          <p:nvPr/>
        </p:nvGrpSpPr>
        <p:grpSpPr>
          <a:xfrm>
            <a:off x="3897360" y="1219320"/>
            <a:ext cx="1587600" cy="1333440"/>
            <a:chOff x="3897360" y="1219320"/>
            <a:chExt cx="1587600" cy="1333440"/>
          </a:xfrm>
        </p:grpSpPr>
        <p:sp>
          <p:nvSpPr>
            <p:cNvPr id="158" name="Rectangle 5"/>
            <p:cNvSpPr/>
            <p:nvPr/>
          </p:nvSpPr>
          <p:spPr>
            <a:xfrm>
              <a:off x="3897360" y="1219320"/>
              <a:ext cx="1587600" cy="13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3560" rIns="43560" tIns="21600" bIns="21600" anchor="ctr">
              <a:noAutofit/>
            </a:bodyPr>
            <a:p>
              <a:pPr marL="228600" indent="-228600">
                <a:lnSpc>
                  <a:spcPct val="100000"/>
                </a:lnSpc>
                <a:buClr>
                  <a:srgbClr val="000000"/>
                </a:buClr>
                <a:buSzPct val="45000"/>
                <a:buFont typeface="Arial"/>
                <a:buAutoNum type="arabicPeriod"/>
                <a:tabLst>
                  <a:tab algn="l" pos="228600"/>
                  <a:tab algn="l" pos="685800"/>
                  <a:tab algn="l" pos="1143000"/>
                  <a:tab algn="l" pos="1600200"/>
                  <a:tab algn="l" pos="2057400"/>
                  <a:tab algn="l" pos="2514600"/>
                  <a:tab algn="l" pos="2971800"/>
                  <a:tab algn="l" pos="3429000"/>
                  <a:tab algn="l" pos="3886200"/>
                  <a:tab algn="l" pos="4343400"/>
                  <a:tab algn="l" pos="4800600"/>
                  <a:tab algn="l" pos="5257800"/>
                  <a:tab algn="l" pos="5715000"/>
                  <a:tab algn="l" pos="6172200"/>
                  <a:tab algn="l" pos="6629400"/>
                  <a:tab algn="l" pos="7086600"/>
                  <a:tab algn="l" pos="7543800"/>
                  <a:tab algn="l" pos="8001000"/>
                  <a:tab algn="l" pos="8458200"/>
                  <a:tab algn="l" pos="8915400"/>
                  <a:tab algn="l" pos="9372600"/>
                  <a:tab algn="l" pos="9601200"/>
                  <a:tab algn="l" pos="10058400"/>
                  <a:tab algn="l" pos="105156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leep mode dims screen and slows CPU on idl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marL="228600" indent="-228600">
                <a:lnSpc>
                  <a:spcPct val="100000"/>
                </a:lnSpc>
                <a:buClr>
                  <a:srgbClr val="000000"/>
                </a:buClr>
                <a:buSzPct val="45000"/>
                <a:buFont typeface="Arial"/>
                <a:buAutoNum type="arabicPeriod"/>
                <a:tabLst>
                  <a:tab algn="l" pos="228600"/>
                  <a:tab algn="l" pos="685800"/>
                  <a:tab algn="l" pos="1143000"/>
                  <a:tab algn="l" pos="1600200"/>
                  <a:tab algn="l" pos="2057400"/>
                  <a:tab algn="l" pos="2514600"/>
                  <a:tab algn="l" pos="2971800"/>
                  <a:tab algn="l" pos="3429000"/>
                  <a:tab algn="l" pos="3886200"/>
                  <a:tab algn="l" pos="4343400"/>
                  <a:tab algn="l" pos="4800600"/>
                  <a:tab algn="l" pos="5257800"/>
                  <a:tab algn="l" pos="5715000"/>
                  <a:tab algn="l" pos="6172200"/>
                  <a:tab algn="l" pos="6629400"/>
                  <a:tab algn="l" pos="7086600"/>
                  <a:tab algn="l" pos="7543800"/>
                  <a:tab algn="l" pos="8001000"/>
                  <a:tab algn="l" pos="8458200"/>
                  <a:tab algn="l" pos="8915400"/>
                  <a:tab algn="l" pos="9372600"/>
                  <a:tab algn="l" pos="9601200"/>
                  <a:tab algn="l" pos="10058400"/>
                  <a:tab algn="l" pos="105156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reme mode does the same and shuts off wireless radio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2"/>
          <p:cNvSpPr/>
          <p:nvPr/>
        </p:nvSpPr>
        <p:spPr>
          <a:xfrm>
            <a:off x="379440" y="76320"/>
            <a:ext cx="47577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f8080"/>
                </a:solidFill>
                <a:latin typeface="Arial"/>
              </a:rPr>
              <a:t>Software Rele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3"/>
          <p:cNvSpPr/>
          <p:nvPr/>
        </p:nvSpPr>
        <p:spPr>
          <a:xfrm>
            <a:off x="380880" y="1828800"/>
            <a:ext cx="464832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06360" indent="-271440">
              <a:lnSpc>
                <a:spcPct val="98000"/>
              </a:lnSpc>
              <a:spcAft>
                <a:spcPts val="108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2.0 – New languages, Activity updater, Backup to XS, Longer battery lif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Fedora standard desktop to complement this release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614520" indent="-271440">
              <a:lnSpc>
                <a:spcPct val="98000"/>
              </a:lnSpc>
              <a:spcAft>
                <a:spcPts val="108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edora desktop available this fal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06360" indent="-271440">
              <a:lnSpc>
                <a:spcPct val="98000"/>
              </a:lnSpc>
              <a:spcAft>
                <a:spcPts val="108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.1.0 – Focus on Reliability, Deployability and Collabora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Windows XP dual-boot to complement this release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06360" indent="-271440">
              <a:lnSpc>
                <a:spcPct val="98000"/>
              </a:lnSpc>
              <a:spcAft>
                <a:spcPts val="1089"/>
              </a:spcAft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* Dates and feature sets of future releases subject to chang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Line 4"/>
          <p:cNvSpPr/>
          <p:nvPr/>
        </p:nvSpPr>
        <p:spPr>
          <a:xfrm>
            <a:off x="309600" y="1066680"/>
            <a:ext cx="49482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Line 5"/>
          <p:cNvSpPr/>
          <p:nvPr/>
        </p:nvSpPr>
        <p:spPr>
          <a:xfrm>
            <a:off x="312840" y="990720"/>
            <a:ext cx="144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Line 6"/>
          <p:cNvSpPr/>
          <p:nvPr/>
        </p:nvSpPr>
        <p:spPr>
          <a:xfrm>
            <a:off x="5268960" y="990720"/>
            <a:ext cx="144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Line 7"/>
          <p:cNvSpPr/>
          <p:nvPr/>
        </p:nvSpPr>
        <p:spPr>
          <a:xfrm>
            <a:off x="1492200" y="990720"/>
            <a:ext cx="180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Line 8"/>
          <p:cNvSpPr/>
          <p:nvPr/>
        </p:nvSpPr>
        <p:spPr>
          <a:xfrm>
            <a:off x="3316320" y="990720"/>
            <a:ext cx="144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Text Box 9"/>
          <p:cNvSpPr/>
          <p:nvPr/>
        </p:nvSpPr>
        <p:spPr>
          <a:xfrm>
            <a:off x="84240" y="762120"/>
            <a:ext cx="76176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485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v 2007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Text Box 10"/>
          <p:cNvSpPr/>
          <p:nvPr/>
        </p:nvSpPr>
        <p:spPr>
          <a:xfrm>
            <a:off x="1173240" y="762120"/>
            <a:ext cx="76176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485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r 2008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Text Box 11"/>
          <p:cNvSpPr/>
          <p:nvPr/>
        </p:nvSpPr>
        <p:spPr>
          <a:xfrm>
            <a:off x="2979720" y="762120"/>
            <a:ext cx="76212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485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pt 2008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 Box 12"/>
          <p:cNvSpPr/>
          <p:nvPr/>
        </p:nvSpPr>
        <p:spPr>
          <a:xfrm>
            <a:off x="4724280" y="762120"/>
            <a:ext cx="76212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485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r 2009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Line 13"/>
          <p:cNvSpPr/>
          <p:nvPr/>
        </p:nvSpPr>
        <p:spPr>
          <a:xfrm>
            <a:off x="2741760" y="1066680"/>
            <a:ext cx="14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Line 14"/>
          <p:cNvSpPr/>
          <p:nvPr/>
        </p:nvSpPr>
        <p:spPr>
          <a:xfrm>
            <a:off x="855720" y="1066680"/>
            <a:ext cx="14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Text Box 15"/>
          <p:cNvSpPr/>
          <p:nvPr/>
        </p:nvSpPr>
        <p:spPr>
          <a:xfrm>
            <a:off x="160200" y="152388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hip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 Box 16"/>
          <p:cNvSpPr/>
          <p:nvPr/>
        </p:nvSpPr>
        <p:spPr>
          <a:xfrm>
            <a:off x="1247760" y="152388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8.1.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Line 19"/>
          <p:cNvSpPr/>
          <p:nvPr/>
        </p:nvSpPr>
        <p:spPr>
          <a:xfrm>
            <a:off x="312840" y="1219320"/>
            <a:ext cx="14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Text Box 20"/>
          <p:cNvSpPr/>
          <p:nvPr/>
        </p:nvSpPr>
        <p:spPr>
          <a:xfrm>
            <a:off x="1752480" y="12193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1.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Line 21"/>
          <p:cNvSpPr/>
          <p:nvPr/>
        </p:nvSpPr>
        <p:spPr>
          <a:xfrm>
            <a:off x="1509840" y="1219320"/>
            <a:ext cx="14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Line 22"/>
          <p:cNvSpPr/>
          <p:nvPr/>
        </p:nvSpPr>
        <p:spPr>
          <a:xfrm>
            <a:off x="3662280" y="1066680"/>
            <a:ext cx="180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Line 23"/>
          <p:cNvSpPr/>
          <p:nvPr/>
        </p:nvSpPr>
        <p:spPr>
          <a:xfrm>
            <a:off x="2114640" y="1066680"/>
            <a:ext cx="14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Line 24"/>
          <p:cNvSpPr/>
          <p:nvPr/>
        </p:nvSpPr>
        <p:spPr>
          <a:xfrm>
            <a:off x="3970440" y="1066680"/>
            <a:ext cx="14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Text Box 25"/>
          <p:cNvSpPr/>
          <p:nvPr/>
        </p:nvSpPr>
        <p:spPr>
          <a:xfrm>
            <a:off x="3429000" y="152388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8.2.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Line 26"/>
          <p:cNvSpPr/>
          <p:nvPr/>
        </p:nvSpPr>
        <p:spPr>
          <a:xfrm>
            <a:off x="3657600" y="12952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Text Box 27"/>
          <p:cNvSpPr/>
          <p:nvPr/>
        </p:nvSpPr>
        <p:spPr>
          <a:xfrm>
            <a:off x="4900680" y="1452600"/>
            <a:ext cx="533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1.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Line 28"/>
          <p:cNvSpPr/>
          <p:nvPr/>
        </p:nvSpPr>
        <p:spPr>
          <a:xfrm>
            <a:off x="5268960" y="1219320"/>
            <a:ext cx="14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Text Box 29"/>
          <p:cNvSpPr/>
          <p:nvPr/>
        </p:nvSpPr>
        <p:spPr>
          <a:xfrm>
            <a:off x="4038480" y="12193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2.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Line 30"/>
          <p:cNvSpPr/>
          <p:nvPr/>
        </p:nvSpPr>
        <p:spPr>
          <a:xfrm>
            <a:off x="1158840" y="1066680"/>
            <a:ext cx="180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Line 31"/>
          <p:cNvSpPr/>
          <p:nvPr/>
        </p:nvSpPr>
        <p:spPr>
          <a:xfrm>
            <a:off x="1806480" y="1066680"/>
            <a:ext cx="180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Line 32"/>
          <p:cNvSpPr/>
          <p:nvPr/>
        </p:nvSpPr>
        <p:spPr>
          <a:xfrm>
            <a:off x="541440" y="1071720"/>
            <a:ext cx="144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Line 33"/>
          <p:cNvSpPr/>
          <p:nvPr/>
        </p:nvSpPr>
        <p:spPr>
          <a:xfrm>
            <a:off x="2417760" y="1066680"/>
            <a:ext cx="14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Line 34"/>
          <p:cNvSpPr/>
          <p:nvPr/>
        </p:nvSpPr>
        <p:spPr>
          <a:xfrm>
            <a:off x="3030480" y="1066680"/>
            <a:ext cx="180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Line 35"/>
          <p:cNvSpPr/>
          <p:nvPr/>
        </p:nvSpPr>
        <p:spPr>
          <a:xfrm>
            <a:off x="4294080" y="1066680"/>
            <a:ext cx="180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Line 36"/>
          <p:cNvSpPr/>
          <p:nvPr/>
        </p:nvSpPr>
        <p:spPr>
          <a:xfrm>
            <a:off x="4583160" y="1066680"/>
            <a:ext cx="14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Line 37"/>
          <p:cNvSpPr/>
          <p:nvPr/>
        </p:nvSpPr>
        <p:spPr>
          <a:xfrm>
            <a:off x="4906800" y="1066680"/>
            <a:ext cx="180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 Box 38"/>
          <p:cNvSpPr/>
          <p:nvPr/>
        </p:nvSpPr>
        <p:spPr>
          <a:xfrm>
            <a:off x="2286000" y="12193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1.2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Text Box 39"/>
          <p:cNvSpPr/>
          <p:nvPr/>
        </p:nvSpPr>
        <p:spPr>
          <a:xfrm>
            <a:off x="2895480" y="12193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1.3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79440" y="125280"/>
            <a:ext cx="4757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8080"/>
                </a:solidFill>
                <a:latin typeface="Arial"/>
              </a:rPr>
              <a:t>Software Technologies</a:t>
            </a: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476424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7800" indent="-2728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 technologies in one laptop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wer Man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sh Networking/Collabo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gar User Interf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tore and Jour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7800" indent="-2728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rastructure 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hool 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Fi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Group 4"/>
          <p:cNvGrpSpPr/>
          <p:nvPr/>
        </p:nvGrpSpPr>
        <p:grpSpPr>
          <a:xfrm>
            <a:off x="3429000" y="1752480"/>
            <a:ext cx="1752120" cy="1752480"/>
            <a:chOff x="3429000" y="1752480"/>
            <a:chExt cx="1752120" cy="1752480"/>
          </a:xfrm>
        </p:grpSpPr>
        <p:pic>
          <p:nvPicPr>
            <p:cNvPr id="133" name="Picture 5" descr=""/>
            <p:cNvPicPr/>
            <p:nvPr/>
          </p:nvPicPr>
          <p:blipFill>
            <a:blip r:embed="rId1"/>
            <a:stretch/>
          </p:blipFill>
          <p:spPr>
            <a:xfrm>
              <a:off x="3429000" y="1752480"/>
              <a:ext cx="1752120" cy="17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Rectangle 6"/>
            <p:cNvSpPr/>
            <p:nvPr/>
          </p:nvSpPr>
          <p:spPr>
            <a:xfrm>
              <a:off x="4743000" y="2550960"/>
              <a:ext cx="438120" cy="45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ts val="36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79440" y="125280"/>
            <a:ext cx="4757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8080"/>
                </a:solidFill>
                <a:latin typeface="Arial"/>
              </a:rPr>
              <a:t>Power Management</a:t>
            </a: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4764240" cy="28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7800" indent="-27288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vailable today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rdware ready for suspend/resu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ort for sleep on lid close or butt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rst level support for more aggressive suspe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bout 4 hours of battery life during normal u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gt;14 hours of battery life in sleep mod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7800" indent="-27288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hanced management for suspend/resu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Book mode to &gt;10 hou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ssive CPU suspen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4757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8080"/>
                </a:solidFill>
                <a:latin typeface="Arial"/>
              </a:rPr>
              <a:t>Mesh and Collaboration</a:t>
            </a: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764240" cy="264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7800" indent="-2728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vailable today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02.11b/g via infrastructure access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all groups of simple mesh, WiFi school ser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llaboration in small group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7800" indent="-2728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ck 802.11s evolution, enhanced scaling, develop robust middleware/AP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rner cases - many students start up at o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sharing at Activity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79440" y="125280"/>
            <a:ext cx="4757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8080"/>
                </a:solidFill>
                <a:latin typeface="Arial"/>
              </a:rPr>
              <a:t>User Interface</a:t>
            </a: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76424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7800" indent="-2728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vailable today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ews: Home, Group, Neighborhood, Ac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ame: People, Places, Objects, 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phasize collaboration and simpli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ite or share activities with oth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7800" indent="-2728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tur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inued performance improv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esh out the concept of Groups or Frie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port for other desktops (KDE, Gnome, Window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79440" y="125280"/>
            <a:ext cx="4757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8080"/>
                </a:solidFill>
                <a:latin typeface="Arial"/>
              </a:rPr>
              <a:t>Datastore / Journal</a:t>
            </a: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476424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7800" indent="-27288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vailable today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cs are created; by wh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sy use; auto s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onological list of activities/ob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O to XS backup for disaster recov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spcBef>
                <a:spcPts val="3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7800" indent="-27288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tur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aling, integration with standard file vi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lk file transfers, transfers outside of the Jour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sioning, XO to XS backup general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79440" y="125280"/>
            <a:ext cx="4757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8080"/>
                </a:solidFill>
                <a:latin typeface="Arial"/>
              </a:rPr>
              <a:t>Security</a:t>
            </a: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80880" y="914400"/>
            <a:ext cx="476424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7800" indent="-27288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vailable toda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-theft of the delivery chain (one time activa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gned software (both OFW and O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ities isolated from file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spcBef>
                <a:spcPts val="3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7800" indent="-27288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tur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ation lease management (time-limit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ity isolation from 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ity signing, Identity authent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79440" y="125280"/>
            <a:ext cx="4757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8080"/>
                </a:solidFill>
                <a:latin typeface="Arial"/>
              </a:rPr>
              <a:t>XS School Server Software</a:t>
            </a: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76424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7800" indent="-2728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vailable toda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dora-based OS; standard services (DHCP, DNS, Apache, uplin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b cache, local content and upgrades for X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nce server for collabo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istration and backup for X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7800" indent="-2728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tur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 for XO backup/restore to X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odle sup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ote management of X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ing, Scala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79440" y="125280"/>
            <a:ext cx="4757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8080"/>
                </a:solidFill>
                <a:latin typeface="Arial"/>
              </a:rPr>
              <a:t>Broader OS Support</a:t>
            </a: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76424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7800" indent="-2728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oot Sugar or alternative operating sys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7800" indent="-2728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D card or USB boot support built 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7800" indent="-2728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vide users OS options beyond standard Sug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7800" indent="-2728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wo current OLPC activ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dora standard desktop sup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ndows XP support on future hardw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7800" indent="-2728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munity members working on Ubuntu, Debian, and other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7800" indent="-2728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inforces XO position as general-purpose, versatile hardware platfo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7T14:40:08Z</dcterms:created>
  <dc:creator/>
  <dc:description>Camrbridge, MA
April 23-27, 2007
</dc:description>
  <dc:language>en-US</dc:language>
  <cp:lastModifiedBy> </cp:lastModifiedBy>
  <cp:lastPrinted>2008-09-10T16:24:23Z</cp:lastPrinted>
  <dcterms:modified xsi:type="dcterms:W3CDTF">2008-09-18T17:56:39Z</dcterms:modified>
  <cp:revision>80</cp:revision>
  <dc:subject/>
  <dc:title>One Laptop per Child</dc:title>
</cp:coreProperties>
</file>